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CD2-7D1E-4CAB-977D-58978BBD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FFF-F6BC-4AF7-835C-5FC12638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4FD-8E62-4734-A4E2-9BC0CDA2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776-4E1A-4C98-AD96-EE19C419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8DB-027E-45F3-BDA9-32528566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371-00C4-42C4-A590-D5A28A0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8B6-CAB2-44D4-9287-42600F7F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6D4-E681-4444-B622-27A0C754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DEA-9336-498B-8D69-A8BFB7AF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F45-B621-494D-991C-B269460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4DD-2BD7-4915-A762-72439E8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85E-DC0D-4C63-A404-06ECF0E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8E16-098E-4C25-878C-6DD41D84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E AU FOST EI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e  literare  cu  contin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or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II  CLASEI  A II-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EZINTA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pa Vitejilor                         Grupa Voinic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mot  Teo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ean Cris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tieganu Andre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rgiu 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urgiu Da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mot I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ea A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ut Georg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46:12Z</dcterms:created>
  <dc:creator>ws11</dc:creator>
  <dc:description/>
  <dc:language>en-US</dc:language>
  <cp:lastModifiedBy>ws11</cp:lastModifiedBy>
  <dcterms:modified xsi:type="dcterms:W3CDTF">2009-12-10T16:51:52Z</dcterms:modified>
  <cp:revision>2</cp:revision>
  <dc:subject/>
  <dc:title>CINE AU FOST EI? </dc:title>
</cp:coreProperties>
</file>